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8.jpeg" ContentType="image/jpeg"/>
  <Override PartName="/ppt/media/image7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68.jpeg" ContentType="image/jpeg"/>
  <Override PartName="/ppt/media/image64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73.jpeg" ContentType="image/jpeg"/>
  <Override PartName="/ppt/media/11%20-%20The%20legend%20of%20Ataman.wav" ContentType="audio/x-wav"/>
  <Override PartName="/ppt/media/image57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233-D1E3-48C0-909C-C8422122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C00-E433-4E28-A6E7-AB22E91B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225-8E60-430A-9CDC-02D84B7A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EA8-1AA5-4B20-A876-DF002817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7125-5141-46B0-B857-8BA1FC51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A0BC-AD9C-40ED-A9C9-35D7543E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55D9-2F18-4951-9405-5F7A5BEC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8AC7-BADB-4608-9023-017C2A00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1AC3-D3B3-41B2-9CC3-F9FF1973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8C38-CF62-4144-8456-30B79B81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FE69-B1C4-410D-AFA6-03B67AB9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B65-34C0-4A74-9656-F1C46571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A738-657E-4739-B0AC-BD5AE5C2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2384-1546-449E-A5A4-0265F2F2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36E2-E808-46F5-B5FF-B20BC838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CE27-2C5B-4115-9A6C-342AC5D2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0421-255E-4972-9BEA-2866AC0B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EA4-FD98-48F8-BBB4-EBB8DE21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21C-AEE5-444D-AEB4-D9438956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5F9-0F65-4A53-B46D-7B829BE7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22A-60B5-4CEB-8ADF-5F42FE3A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54F-C150-4ACC-940E-6C8E5EB0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741-E001-4ED4-9B61-4CFEF73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645-632E-4C1F-B8A5-957BE144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17DB-B806-4591-838B-38ECA424FFD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4BDE-FE5F-4093-BE19-EDBDBA8E889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1%20-%20The%20legend%20of%20Ataman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03280" y="1700280"/>
            <a:ext cx="3360960" cy="17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Narrow"/>
              </a:rPr>
              <a:t>Rusko,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56000" y="4149720"/>
            <a:ext cx="547200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Narrow"/>
              </a:rPr>
              <a:t>tam se fakt s ničím neserou.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угадай страну\getImage.jpeg5.jpeg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угадай страну\getImage.jpeg6.jpeg"/>
          <p:cNvPicPr/>
          <p:nvPr/>
        </p:nvPicPr>
        <p:blipFill>
          <a:blip r:embed="rId1"/>
          <a:stretch/>
        </p:blipFill>
        <p:spPr>
          <a:xfrm>
            <a:off x="2495520" y="333360"/>
            <a:ext cx="40924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угадай страну\getImage.jpeg7.jpeg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угадай страну\getImage.jpeg8.jpeg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угадай страну\getImage.jpeg9.jpeg"/>
          <p:cNvPicPr/>
          <p:nvPr/>
        </p:nvPicPr>
        <p:blipFill>
          <a:blip r:embed="rId1"/>
          <a:stretch/>
        </p:blipFill>
        <p:spPr>
          <a:xfrm>
            <a:off x="2124000" y="333360"/>
            <a:ext cx="49006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:\угадай страну\getImage.jpeg10.jpeg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:\угадай страну\getImage.jpeg14.jpeg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:\угадай страну\getImage.jpeg15.jpe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:\угадай страну\getImage.jpeg16.jpeg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:\угадай страну\getImage.jpeg17.jpeg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:\угадай страну\getImage.jpeg11.jpeg"/>
          <p:cNvPicPr/>
          <p:nvPr/>
        </p:nvPicPr>
        <p:blipFill>
          <a:blip r:embed="rId1"/>
          <a:stretch/>
        </p:blipFill>
        <p:spPr>
          <a:xfrm>
            <a:off x="1652760" y="260280"/>
            <a:ext cx="5789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:\угадай страну\getImage.jpeg18.jpeg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:\угадай страну\getImage.jpeg19.jpeg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:\угадай страну\getImage.jpeg20.jpeg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:\угадай страну\getImage.jpeg21.jpeg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:\угадай страну\getImage.jpeg22.jpeg"/>
          <p:cNvPicPr/>
          <p:nvPr/>
        </p:nvPicPr>
        <p:blipFill>
          <a:blip r:embed="rId1"/>
          <a:stretch/>
        </p:blipFill>
        <p:spPr>
          <a:xfrm>
            <a:off x="539640" y="33336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:\угадай страну\getImage.jpeg23.jpeg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:\угадай страну\getImage.jpeg24.jpeg"/>
          <p:cNvPicPr/>
          <p:nvPr/>
        </p:nvPicPr>
        <p:blipFill>
          <a:blip r:embed="rId1"/>
          <a:stretch/>
        </p:blipFill>
        <p:spPr>
          <a:xfrm>
            <a:off x="684360" y="476280"/>
            <a:ext cx="777708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:\угадай страну\getImage.jpeg25.jpeg"/>
          <p:cNvPicPr/>
          <p:nvPr/>
        </p:nvPicPr>
        <p:blipFill>
          <a:blip r:embed="rId1"/>
          <a:stretch/>
        </p:blipFill>
        <p:spPr>
          <a:xfrm>
            <a:off x="611280" y="907920"/>
            <a:ext cx="792144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:\угадай страну\getImage.jpeg26.jpeg"/>
          <p:cNvPicPr/>
          <p:nvPr/>
        </p:nvPicPr>
        <p:blipFill>
          <a:blip r:embed="rId1"/>
          <a:stretch/>
        </p:blipFill>
        <p:spPr>
          <a:xfrm>
            <a:off x="2076480" y="285840"/>
            <a:ext cx="523404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:\угадай страну\getImage.jpeg27.jpe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:\угадай страну\99.jpeg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F:\угадай страну\getImage.jpeg28.jpeg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:\угадай страну\getImage.jpeg29.jpeg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F:\угадай страну\getImage.jpeg30.jpeg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F:\угадай страну\getImage.jpeg31.jpe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:\угадай страну\getImage.jpeg32.jpeg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:\угадай страну\getImage.jpeg33.jpeg"/>
          <p:cNvPicPr/>
          <p:nvPr/>
        </p:nvPicPr>
        <p:blipFill>
          <a:blip r:embed="rId1"/>
          <a:stretch/>
        </p:blipFill>
        <p:spPr>
          <a:xfrm>
            <a:off x="539640" y="476280"/>
            <a:ext cx="8128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:\угадай страну\getImage.jpeg34.jpeg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F:\угадай страну\getImage.jpeg35.jpeg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:\угадай страну\getImage.jpeg36.jpeg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F:\угадай страну\getImage.jpeg37.jpeg"/>
          <p:cNvPicPr/>
          <p:nvPr/>
        </p:nvPicPr>
        <p:blipFill>
          <a:blip r:embed="rId1"/>
          <a:stretch/>
        </p:blipFill>
        <p:spPr>
          <a:xfrm>
            <a:off x="2394000" y="260280"/>
            <a:ext cx="4734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:\угадай страну\getImage.jpeg12.jpeg"/>
          <p:cNvPicPr/>
          <p:nvPr/>
        </p:nvPicPr>
        <p:blipFill>
          <a:blip r:embed="rId1"/>
          <a:stretch/>
        </p:blipFill>
        <p:spPr>
          <a:xfrm>
            <a:off x="2487600" y="260280"/>
            <a:ext cx="406404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угадай страну\getImage.jpeg38.jpeg"/>
          <p:cNvPicPr/>
          <p:nvPr/>
        </p:nvPicPr>
        <p:blipFill>
          <a:blip r:embed="rId1"/>
          <a:stretch/>
        </p:blipFill>
        <p:spPr>
          <a:xfrm>
            <a:off x="684360" y="476280"/>
            <a:ext cx="7921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F:\угадай страну\getImage.jpeg39.jpe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F:\угадай страну\getImage.jpeg40.jpeg"/>
          <p:cNvPicPr/>
          <p:nvPr/>
        </p:nvPicPr>
        <p:blipFill>
          <a:blip r:embed="rId1"/>
          <a:stretch/>
        </p:blipFill>
        <p:spPr>
          <a:xfrm>
            <a:off x="1476360" y="285840"/>
            <a:ext cx="63118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:\угадай страну\getImage.jpeg41.jpe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F:\угадай страну\getImage.jpeg43.jpeg"/>
          <p:cNvPicPr/>
          <p:nvPr/>
        </p:nvPicPr>
        <p:blipFill>
          <a:blip r:embed="rId1"/>
          <a:stretch/>
        </p:blipFill>
        <p:spPr>
          <a:xfrm>
            <a:off x="611280" y="549360"/>
            <a:ext cx="7920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угадай страну\getImage.jpeg44.jpeg"/>
          <p:cNvPicPr/>
          <p:nvPr/>
        </p:nvPicPr>
        <p:blipFill>
          <a:blip r:embed="rId1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:\угадай страну\getImage.jpeg45.jpeg"/>
          <p:cNvPicPr/>
          <p:nvPr/>
        </p:nvPicPr>
        <p:blipFill>
          <a:blip r:embed="rId1"/>
          <a:stretch/>
        </p:blipFill>
        <p:spPr>
          <a:xfrm>
            <a:off x="2268360" y="260280"/>
            <a:ext cx="52596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:\угадай страну\getImage.jpeg46.jpeg"/>
          <p:cNvPicPr/>
          <p:nvPr/>
        </p:nvPicPr>
        <p:blipFill>
          <a:blip r:embed="rId1"/>
          <a:stretch/>
        </p:blipFill>
        <p:spPr>
          <a:xfrm>
            <a:off x="539640" y="692280"/>
            <a:ext cx="81280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F:\угадай страну\getImage.jpeg47.jpeg"/>
          <p:cNvPicPr/>
          <p:nvPr/>
        </p:nvPicPr>
        <p:blipFill>
          <a:blip r:embed="rId1"/>
          <a:stretch/>
        </p:blipFill>
        <p:spPr>
          <a:xfrm>
            <a:off x="539640" y="1052640"/>
            <a:ext cx="8128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F:\угадай страну\getImage.jpeg48.jpeg"/>
          <p:cNvPicPr/>
          <p:nvPr/>
        </p:nvPicPr>
        <p:blipFill>
          <a:blip r:embed="rId1"/>
          <a:stretch/>
        </p:blipFill>
        <p:spPr>
          <a:xfrm>
            <a:off x="539640" y="620640"/>
            <a:ext cx="8128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:\угадай страну\97.jpeg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02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F:\угадай страну\getImage.jpeg49.jpeg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:\угадай страну\getImage.jpeg50.jpeg"/>
          <p:cNvPicPr/>
          <p:nvPr/>
        </p:nvPicPr>
        <p:blipFill>
          <a:blip r:embed="rId1"/>
          <a:stretch/>
        </p:blipFill>
        <p:spPr>
          <a:xfrm>
            <a:off x="2124000" y="260280"/>
            <a:ext cx="556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:\угадай страну\getImage.jpeg51.jpeg"/>
          <p:cNvPicPr/>
          <p:nvPr/>
        </p:nvPicPr>
        <p:blipFill>
          <a:blip r:embed="rId1"/>
          <a:stretch/>
        </p:blipFill>
        <p:spPr>
          <a:xfrm>
            <a:off x="2700360" y="333360"/>
            <a:ext cx="439416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:\угадай страну\getImage.jpeg52.jpeg"/>
          <p:cNvPicPr/>
          <p:nvPr/>
        </p:nvPicPr>
        <p:blipFill>
          <a:blip r:embed="rId1"/>
          <a:stretch/>
        </p:blipFill>
        <p:spPr>
          <a:xfrm>
            <a:off x="2411280" y="260280"/>
            <a:ext cx="48722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F:\угадай страну\getImage.jpeg53.jpeg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F:\угадай страну\getImage.jpeg54.jpeg"/>
          <p:cNvPicPr/>
          <p:nvPr/>
        </p:nvPicPr>
        <p:blipFill>
          <a:blip r:embed="rId1"/>
          <a:stretch/>
        </p:blipFill>
        <p:spPr>
          <a:xfrm>
            <a:off x="2463840" y="285840"/>
            <a:ext cx="4761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:\угадай страну\getImage.jpeg55.jpeg"/>
          <p:cNvPicPr/>
          <p:nvPr/>
        </p:nvPicPr>
        <p:blipFill>
          <a:blip r:embed="rId1"/>
          <a:stretch/>
        </p:blipFill>
        <p:spPr>
          <a:xfrm>
            <a:off x="539640" y="33336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угадай страну\getImage.jpeg56.jpeg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F:\угадай страну\getImage.jpeg58.jpeg"/>
          <p:cNvPicPr/>
          <p:nvPr/>
        </p:nvPicPr>
        <p:blipFill>
          <a:blip r:embed="rId1"/>
          <a:stretch/>
        </p:blipFill>
        <p:spPr>
          <a:xfrm>
            <a:off x="2157480" y="212760"/>
            <a:ext cx="489564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F:\угадай страну\getImage.jpeg59.jpe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угадай страну\getImage.jpeg3.jpe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F:\угадай страну\getImage.jpeg60.jpeg"/>
          <p:cNvPicPr/>
          <p:nvPr/>
        </p:nvPicPr>
        <p:blipFill>
          <a:blip r:embed="rId1"/>
          <a:stretch/>
        </p:blipFill>
        <p:spPr>
          <a:xfrm>
            <a:off x="1908000" y="404640"/>
            <a:ext cx="5399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F:\угадай страну\getImage.jpeg61.jpeg"/>
          <p:cNvPicPr/>
          <p:nvPr/>
        </p:nvPicPr>
        <p:blipFill>
          <a:blip r:embed="rId1"/>
          <a:stretch/>
        </p:blipFill>
        <p:spPr>
          <a:xfrm>
            <a:off x="1116000" y="476280"/>
            <a:ext cx="6840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F:\угадай страну\getImage.jpeg62.jpeg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:\угадай страну\getImage.jpeg63.jpeg"/>
          <p:cNvPicPr/>
          <p:nvPr/>
        </p:nvPicPr>
        <p:blipFill>
          <a:blip r:embed="rId1"/>
          <a:stretch/>
        </p:blipFill>
        <p:spPr>
          <a:xfrm>
            <a:off x="1971720" y="260280"/>
            <a:ext cx="586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F:\угадай страну\getImage.jpeg64.jpeg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F:\угадай страну\getImage.jpeg65.jpeg"/>
          <p:cNvPicPr/>
          <p:nvPr/>
        </p:nvPicPr>
        <p:blipFill>
          <a:blip r:embed="rId1"/>
          <a:stretch/>
        </p:blipFill>
        <p:spPr>
          <a:xfrm>
            <a:off x="611280" y="35712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:\угадай страну\getImage.jpeg66.jpeg"/>
          <p:cNvPicPr/>
          <p:nvPr/>
        </p:nvPicPr>
        <p:blipFill>
          <a:blip r:embed="rId1"/>
          <a:stretch/>
        </p:blipFill>
        <p:spPr>
          <a:xfrm>
            <a:off x="684360" y="534960"/>
            <a:ext cx="79200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:\угадай страну\getImage.jpeg67.jpeg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F:\угадай страну\getImage.jpeg68.jpeg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F:\угадай страну\getImage.jpeg69.jpeg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:\угадай страну\getImage.jpeg"/>
          <p:cNvPicPr/>
          <p:nvPr/>
        </p:nvPicPr>
        <p:blipFill>
          <a:blip r:embed="rId1"/>
          <a:stretch/>
        </p:blipFill>
        <p:spPr>
          <a:xfrm>
            <a:off x="2268360" y="333360"/>
            <a:ext cx="4407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F:\угадай страну\getImage.jpeg70.jpeg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F:\угадай страну\getImage.jpeg71.jpeg"/>
          <p:cNvPicPr/>
          <p:nvPr/>
        </p:nvPicPr>
        <p:blipFill>
          <a:blip r:embed="rId1"/>
          <a:stretch/>
        </p:blipFill>
        <p:spPr>
          <a:xfrm>
            <a:off x="539640" y="476280"/>
            <a:ext cx="8207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угадай страну\getImage.jpeg72.jpeg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F:\угадай страну\getImage.jpeg73.jpeg"/>
          <p:cNvPicPr/>
          <p:nvPr/>
        </p:nvPicPr>
        <p:blipFill>
          <a:blip r:embed="rId1"/>
          <a:stretch/>
        </p:blipFill>
        <p:spPr>
          <a:xfrm>
            <a:off x="2124000" y="260280"/>
            <a:ext cx="4886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F:\угадай страну\getImage.jpeg74.jpeg"/>
          <p:cNvPicPr/>
          <p:nvPr/>
        </p:nvPicPr>
        <p:blipFill>
          <a:blip r:embed="rId1"/>
          <a:stretch/>
        </p:blipFill>
        <p:spPr>
          <a:xfrm>
            <a:off x="611280" y="98100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:\угадай страну\getImage.jpeg75.jpeg"/>
          <p:cNvPicPr/>
          <p:nvPr/>
        </p:nvPicPr>
        <p:blipFill>
          <a:blip r:embed="rId1"/>
          <a:stretch/>
        </p:blipFill>
        <p:spPr>
          <a:xfrm>
            <a:off x="539640" y="981000"/>
            <a:ext cx="79930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:\угадай страну\getImage.jpeg76.jpeg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F:\угадай страну\getImage.jpeg79.jpeg"/>
          <p:cNvPicPr/>
          <p:nvPr/>
        </p:nvPicPr>
        <p:blipFill>
          <a:blip r:embed="rId1"/>
          <a:stretch/>
        </p:blipFill>
        <p:spPr>
          <a:xfrm>
            <a:off x="2141640" y="333360"/>
            <a:ext cx="4600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:\угадай страну\getImage.jpeg80.jpeg"/>
          <p:cNvPicPr/>
          <p:nvPr/>
        </p:nvPicPr>
        <p:blipFill>
          <a:blip r:embed="rId1"/>
          <a:stretch/>
        </p:blipFill>
        <p:spPr>
          <a:xfrm>
            <a:off x="2340000" y="333360"/>
            <a:ext cx="4410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:\угадай страну\getImage.jpeg83.jpeg"/>
          <p:cNvPicPr/>
          <p:nvPr/>
        </p:nvPicPr>
        <p:blipFill>
          <a:blip r:embed="rId1"/>
          <a:stretch/>
        </p:blipFill>
        <p:spPr>
          <a:xfrm>
            <a:off x="539640" y="692280"/>
            <a:ext cx="812808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:\угадай страну\98.jpeg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:\угадай страну\getImage.jpeg84.jpeg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F:\угадай страну\getImage.jpeg85.jpeg"/>
          <p:cNvPicPr/>
          <p:nvPr/>
        </p:nvPicPr>
        <p:blipFill>
          <a:blip r:embed="rId1"/>
          <a:stretch/>
        </p:blipFill>
        <p:spPr>
          <a:xfrm>
            <a:off x="2195640" y="333360"/>
            <a:ext cx="49291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:\угадай страну\getImage.jpeg86.jpeg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:\угадай страну\getImage.jpeg87.jpeg"/>
          <p:cNvPicPr/>
          <p:nvPr/>
        </p:nvPicPr>
        <p:blipFill>
          <a:blip r:embed="rId1"/>
          <a:stretch/>
        </p:blipFill>
        <p:spPr>
          <a:xfrm>
            <a:off x="2178000" y="26028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:\угадай страну\getImage.jpeg89.jpe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:\угадай страну\getImage.jpeg90.jpeg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:\угадай страну\getImage.jpeg93.jpeg"/>
          <p:cNvPicPr/>
          <p:nvPr/>
        </p:nvPicPr>
        <p:blipFill>
          <a:blip r:embed="rId1"/>
          <a:stretch/>
        </p:blipFill>
        <p:spPr>
          <a:xfrm>
            <a:off x="539640" y="765000"/>
            <a:ext cx="79930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:\угадай страну\getImage.jpeg95.jpeg"/>
          <p:cNvPicPr/>
          <p:nvPr/>
        </p:nvPicPr>
        <p:blipFill>
          <a:blip r:embed="rId1"/>
          <a:stretch/>
        </p:blipFill>
        <p:spPr>
          <a:xfrm>
            <a:off x="684360" y="476280"/>
            <a:ext cx="777708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:\угадай страну\getImage.jpeg94.jpeg"/>
          <p:cNvPicPr/>
          <p:nvPr/>
        </p:nvPicPr>
        <p:blipFill>
          <a:blip r:embed="rId1"/>
          <a:stretch/>
        </p:blipFill>
        <p:spPr>
          <a:xfrm>
            <a:off x="2411280" y="333360"/>
            <a:ext cx="4241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F:\угадай страну\getImage.jpeg96.jpeg"/>
          <p:cNvPicPr/>
          <p:nvPr/>
        </p:nvPicPr>
        <p:blipFill>
          <a:blip r:embed="rId1"/>
          <a:stretch/>
        </p:blipFill>
        <p:spPr>
          <a:xfrm>
            <a:off x="2411280" y="26028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:\угадай страну\getImage.jpeg4.jpeg"/>
          <p:cNvPicPr/>
          <p:nvPr/>
        </p:nvPicPr>
        <p:blipFill>
          <a:blip r:embed="rId1"/>
          <a:stretch/>
        </p:blipFill>
        <p:spPr>
          <a:xfrm>
            <a:off x="539640" y="549360"/>
            <a:ext cx="806472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:\угадай страну\getImage.jpeg92.jpeg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F:\угадай страну\getImage.jpeg81.jpeg"/>
          <p:cNvPicPr/>
          <p:nvPr/>
        </p:nvPicPr>
        <p:blipFill>
          <a:blip r:embed="rId1"/>
          <a:stretch/>
        </p:blipFill>
        <p:spPr>
          <a:xfrm>
            <a:off x="2050920" y="260280"/>
            <a:ext cx="49197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08:31:10Z</dcterms:created>
  <dc:creator>belyaeva</dc:creator>
  <dc:description/>
  <dc:language>en-US</dc:language>
  <cp:lastModifiedBy>Josef - Roman</cp:lastModifiedBy>
  <dcterms:modified xsi:type="dcterms:W3CDTF">2012-06-10T16:55:32Z</dcterms:modified>
  <cp:revision>4</cp:revision>
  <dc:subject/>
  <dc:title>Слайд 1</dc:title>
</cp:coreProperties>
</file>