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6A5-6AD4-412B-914E-48C6A0BB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84D-2D25-4BA4-9CAB-1EFC9357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284-4443-4420-8899-65A5FE91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752-415E-44BC-9547-E8E7424C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2D8-0B7C-41A3-8080-BF19D872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07D-503D-4A2B-8169-928C52C6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81A-3505-4DA6-AC3E-C6425373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FB2-BC3B-49B3-A43C-1706B74D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FE8-0726-4DBC-95E8-4FC77D73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7B2-8847-4C9B-903B-64E9E1F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287-F9C9-4652-A355-4529D3D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193-7FEF-4F0E-A615-2A81D1C5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3178-5285-4AAE-A890-BD0B236736E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 se stane kdyz zadrzis dech prilis dlouh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D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8840" y="0"/>
            <a:ext cx="502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 VÝD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3240"/>
            <a:ext cx="8496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20:23:28Z</dcterms:created>
  <dc:creator> philou</dc:creator>
  <dc:description/>
  <dc:language>en-US</dc:language>
  <cp:lastModifiedBy>SAU</cp:lastModifiedBy>
  <dcterms:modified xsi:type="dcterms:W3CDTF">2006-08-29T11:18:00Z</dcterms:modified>
  <cp:revision>6</cp:revision>
  <dc:subject/>
  <dc:title>Que se passe t'il quand on retient sa respiration trop longtemps </dc:title>
</cp:coreProperties>
</file>